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915-A36F-4903-BD5F-E5CC2B63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582-FE2F-43AD-A43D-660C4CBD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11E-C855-4414-A056-155B9AC9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CFD-8DC3-4683-95AE-71ABCD5B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695-F2BA-434F-A791-B6D0CC11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018-452B-4BA9-8F3B-41A3D940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1FC-BFEA-4390-91FB-30AFE553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F3D-C3AD-4A80-9796-DD2D4F06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97F-648C-4D6C-85CC-DD5A4C67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F63-53B7-4E66-8D34-01B2B7B2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9EA-1887-4B3F-A225-ECF08C39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7AF-84BB-4BEE-A398-CF5936F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EDE3-D1CF-4FCB-A1FF-D47685E31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58680"/>
            <a:ext cx="93283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Our Goals for Today:</a:t>
            </a:r>
            <a:br>
              <a:rPr sz="4800"/>
            </a:b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1480" y="25905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nis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deling of Step One in Process of Unit Planning, Assign Our Culminating Project/Performance Task, Complete Process for Step One For Your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ne:  Browse through Curriculum Map and Standards for BSD 9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anguage Arts.  What do we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wo:  Consider Q3 unit (no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our:  Choose the “Core Tasks” for the unit.  Remember no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 too many. (We Chose  Repeat Step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(Wilhelm p. 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uns and Adjective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Ideas (Essential Q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ar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cr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b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Task/Culminating Project 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5 an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Five:  Brainstorm at Least three Essential Question Ideas (see UBD ch. 4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63604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(UBD chapter 7 and Wilhelm p. 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One:  Look at the Curriculum Map for the unit you will use for the Annotated Unit Plan Portfol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our:  From the instructional and performance objectives (standards)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the “Core Tasks” for the unit.  Remember not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on to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. (We Chose   Repeat Step Tw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ilhelm p. 6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er process to planning for your u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skills necessary for completing performance task and acceptable evidence of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Backwards Plan/Plan Learning Experiences and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SD</cp:lastModifiedBy>
  <dcterms:modified xsi:type="dcterms:W3CDTF">2011-02-09T22:44:12Z</dcterms:modified>
  <cp:revision>3</cp:revision>
  <dc:subject/>
  <dc:title>PowerPoint Presentation</dc:title>
</cp:coreProperties>
</file>